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perial Japanese Flag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000"/>
                </a:solidFill>
                <a:latin typeface="Japan"/>
              </a:rPr>
              <a:t>Click to edit the title text format</a:t>
            </a:r>
            <a:endParaRPr b="0" lang="en-US" sz="4400" spc="-1" strike="noStrike">
              <a:solidFill>
                <a:srgbClr val="e20000"/>
              </a:solidFill>
              <a:latin typeface="Jap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dc8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1447920" y="914400"/>
            <a:ext cx="6400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Japa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becomes a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imperialist pow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6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Meiji Revolt - 18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533520" y="1219320"/>
            <a:ext cx="373356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owerful gro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f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verthrow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Sakamoto Ryom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the h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helped Jap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emerge fr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________ into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unified moder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9" descr="Sakamoto Ryoma"/>
          <p:cNvPicPr/>
          <p:nvPr/>
        </p:nvPicPr>
        <p:blipFill>
          <a:blip r:embed="rId1"/>
          <a:srcRect l="1926" t="2853" r="3578" b="2853"/>
          <a:stretch/>
        </p:blipFill>
        <p:spPr>
          <a:xfrm>
            <a:off x="4800600" y="1371600"/>
            <a:ext cx="37339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Shogunate Is Overthr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ast of samurai last Tokugawa"/>
          <p:cNvPicPr/>
          <p:nvPr/>
        </p:nvPicPr>
        <p:blipFill>
          <a:blip r:embed="rId1"/>
          <a:stretch/>
        </p:blipFill>
        <p:spPr>
          <a:xfrm>
            <a:off x="4224240" y="1371600"/>
            <a:ext cx="39290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Text Box 4"/>
          <p:cNvSpPr/>
          <p:nvPr/>
        </p:nvSpPr>
        <p:spPr>
          <a:xfrm>
            <a:off x="838080" y="1219320"/>
            <a:ext cx="2895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las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kugaw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Yoshino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okugawa Yoshinobu"/>
          <p:cNvPicPr/>
          <p:nvPr/>
        </p:nvPicPr>
        <p:blipFill>
          <a:blip r:embed="rId2"/>
          <a:stretch/>
        </p:blipFill>
        <p:spPr>
          <a:xfrm>
            <a:off x="1027080" y="3505320"/>
            <a:ext cx="2249640" cy="29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emperor Mutsuhito first Meiji"/>
          <p:cNvPicPr/>
          <p:nvPr/>
        </p:nvPicPr>
        <p:blipFill>
          <a:blip r:embed="rId1">
            <a:lum contrast="6000"/>
          </a:blip>
          <a:srcRect l="56678" t="33310" r="5329" b="5493"/>
          <a:stretch/>
        </p:blipFill>
        <p:spPr>
          <a:xfrm>
            <a:off x="2666880" y="1066680"/>
            <a:ext cx="40388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 Box 4"/>
          <p:cNvSpPr/>
          <p:nvPr/>
        </p:nvSpPr>
        <p:spPr>
          <a:xfrm>
            <a:off x="1523880" y="6172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MEIJ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“__________________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Emperor Is “Restored” to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Newspaper Cartoon, 1870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BUNMEI"/>
          <p:cNvPicPr/>
          <p:nvPr/>
        </p:nvPicPr>
        <p:blipFill>
          <a:blip r:embed="rId1">
            <a:lum contrast="6000"/>
          </a:blip>
          <a:srcRect l="2354" t="1530" r="0" b="0"/>
          <a:stretch/>
        </p:blipFill>
        <p:spPr>
          <a:xfrm>
            <a:off x="1600200" y="1143000"/>
            <a:ext cx="6248520" cy="473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Text Box 4"/>
          <p:cNvSpPr/>
          <p:nvPr/>
        </p:nvSpPr>
        <p:spPr>
          <a:xfrm>
            <a:off x="1523880" y="60958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________     _____________    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267080" y="228600"/>
            <a:ext cx="4343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Modernization by 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“Selective Borrow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Board game"/>
          <p:cNvPicPr/>
          <p:nvPr/>
        </p:nvPicPr>
        <p:blipFill>
          <a:blip r:embed="rId1"/>
          <a:srcRect l="1940" t="1388" r="1093" b="0"/>
          <a:stretch/>
        </p:blipFill>
        <p:spPr>
          <a:xfrm>
            <a:off x="228600" y="304920"/>
            <a:ext cx="4346640" cy="617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724280" y="2340000"/>
            <a:ext cx="426744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pular board g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by leavin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&amp; studying i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various Wester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capit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nd by returning to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and becoming a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prominent governm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off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257800" y="228600"/>
            <a:ext cx="3505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European</a:t>
            </a:r>
            <a:br>
              <a:rPr sz="4400"/>
            </a:b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PROSPE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228600"/>
            <a:ext cx="44182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 Box 4"/>
          <p:cNvSpPr/>
          <p:nvPr/>
        </p:nvSpPr>
        <p:spPr>
          <a:xfrm>
            <a:off x="4952880" y="2041560"/>
            <a:ext cx="396252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urope began to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“loom large” i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the thinking of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many Japane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New sloga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e20000"/>
                </a:solidFill>
                <a:latin typeface="Comic Sans MS"/>
              </a:rPr>
              <a:t>______________________________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Japanese Became Obsessed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5GIRL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61920" y="1744560"/>
            <a:ext cx="397368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LADY1"/>
          <p:cNvPicPr/>
          <p:nvPr/>
        </p:nvPicPr>
        <p:blipFill>
          <a:blip r:embed="rId2"/>
          <a:stretch/>
        </p:blipFill>
        <p:spPr>
          <a:xfrm>
            <a:off x="5638680" y="1676520"/>
            <a:ext cx="2619360" cy="41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5"/>
          <p:cNvSpPr/>
          <p:nvPr/>
        </p:nvSpPr>
        <p:spPr>
          <a:xfrm>
            <a:off x="1371600" y="601992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_________________________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0000000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90720" y="1041480"/>
            <a:ext cx="7238880" cy="54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Western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Maiji Japan-soldiers &amp; wives"/>
          <p:cNvPicPr/>
          <p:nvPr/>
        </p:nvPicPr>
        <p:blipFill>
          <a:blip r:embed="rId1"/>
          <a:stretch/>
        </p:blipFill>
        <p:spPr>
          <a:xfrm>
            <a:off x="2655720" y="990720"/>
            <a:ext cx="405000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Text Box 6"/>
          <p:cNvSpPr/>
          <p:nvPr/>
        </p:nvSpPr>
        <p:spPr>
          <a:xfrm>
            <a:off x="1371600" y="6172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panese soldiers with their w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Western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Rulers Set the Ton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14400" y="5805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eror Meiji                Empress Haruko (1868- 19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Meiji EMperor"/>
          <p:cNvPicPr/>
          <p:nvPr/>
        </p:nvPicPr>
        <p:blipFill>
          <a:blip r:embed="rId1"/>
          <a:stretch/>
        </p:blipFill>
        <p:spPr>
          <a:xfrm>
            <a:off x="914400" y="1600200"/>
            <a:ext cx="2709720" cy="41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7" descr="E,press Haruko"/>
          <p:cNvPicPr/>
          <p:nvPr/>
        </p:nvPicPr>
        <p:blipFill>
          <a:blip r:embed="rId2"/>
          <a:stretch/>
        </p:blipFill>
        <p:spPr>
          <a:xfrm>
            <a:off x="5002200" y="1600200"/>
            <a:ext cx="315108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333360"/>
            <a:ext cx="83822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Changes Direction During th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Meiji Era:  1868 - 19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erry-twoviews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4048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523880" y="6095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dore Matthew P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33336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anging Women’s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Fash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Meiji woman 1900 hairstyle"/>
          <p:cNvPicPr/>
          <p:nvPr/>
        </p:nvPicPr>
        <p:blipFill>
          <a:blip r:embed="rId1"/>
          <a:stretch/>
        </p:blipFill>
        <p:spPr>
          <a:xfrm>
            <a:off x="380880" y="1371600"/>
            <a:ext cx="26942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4" descr="meiji woman 1900 swimmiin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429000" y="2438280"/>
            <a:ext cx="2457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5" descr="Meiji woman 1908 miss japan"/>
          <p:cNvPicPr/>
          <p:nvPr/>
        </p:nvPicPr>
        <p:blipFill>
          <a:blip r:embed="rId3"/>
          <a:stretch/>
        </p:blipFill>
        <p:spPr>
          <a:xfrm>
            <a:off x="6172200" y="1371600"/>
            <a:ext cx="27036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 Box 6"/>
          <p:cNvSpPr/>
          <p:nvPr/>
        </p:nvSpPr>
        <p:spPr>
          <a:xfrm>
            <a:off x="304920" y="525780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900 Sty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172200" y="51814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Firs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“Miss Japan”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19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276720" y="2438280"/>
            <a:ext cx="29718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Meiji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Ref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295280" y="380880"/>
            <a:ext cx="198144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boli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of th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eud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373392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an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Re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36232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Human Right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&amp; Religiou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6858000" y="411480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uild 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 Nav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Brit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617220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esterniz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Schoo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U.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6858000" y="22096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iz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Arm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Pruss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480060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mper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orship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nten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H="1" flipV="1">
            <a:off x="297180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556272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4800600" y="1981080"/>
            <a:ext cx="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5791320" y="2971800"/>
            <a:ext cx="9144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6095880" y="3809880"/>
            <a:ext cx="9144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5334120" y="4038480"/>
            <a:ext cx="30456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H="1">
            <a:off x="3581280" y="4038480"/>
            <a:ext cx="60984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2"/>
          <p:cNvSpPr/>
          <p:nvPr/>
        </p:nvSpPr>
        <p:spPr>
          <a:xfrm>
            <a:off x="533520" y="38098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ritt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onstit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Germ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 flipH="1">
            <a:off x="2590920" y="3962520"/>
            <a:ext cx="83808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457200" y="19810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ankin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 flipV="1">
            <a:off x="2514240" y="2819160"/>
            <a:ext cx="121932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Perry in Japan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2014560"/>
            <a:ext cx="4952880" cy="484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Text Box 2"/>
          <p:cNvSpPr/>
          <p:nvPr/>
        </p:nvSpPr>
        <p:spPr>
          <a:xfrm>
            <a:off x="380880" y="152280"/>
            <a:ext cx="83822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1853 – Commodore Matthew Perry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“Opens Up” Japan to Western T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map-US Expansion to 1900"/>
          <p:cNvPicPr/>
          <p:nvPr/>
        </p:nvPicPr>
        <p:blipFill>
          <a:blip r:embed="rId1"/>
          <a:srcRect l="1162" t="2797" r="1309" b="2211"/>
          <a:stretch/>
        </p:blipFill>
        <p:spPr>
          <a:xfrm>
            <a:off x="380880" y="1346040"/>
            <a:ext cx="5867640" cy="47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Text Box 2"/>
          <p:cNvSpPr/>
          <p:nvPr/>
        </p:nvSpPr>
        <p:spPr>
          <a:xfrm>
            <a:off x="380880" y="2890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hat Did the U. S. Wan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324480" y="1828800"/>
            <a:ext cx="26672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_____________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____________________________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__________________________________________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48320" y="714240"/>
            <a:ext cx="4114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Perry’s “Black Ship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erry's Black Ship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228600"/>
            <a:ext cx="38606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Opening of Japan by Perry - 1855"/>
          <p:cNvPicPr/>
          <p:nvPr/>
        </p:nvPicPr>
        <p:blipFill>
          <a:blip r:embed="rId2">
            <a:lum contrast="6000"/>
          </a:blip>
          <a:srcRect l="1874" t="1727" r="0" b="0"/>
          <a:stretch/>
        </p:blipFill>
        <p:spPr>
          <a:xfrm>
            <a:off x="1828800" y="2770200"/>
            <a:ext cx="7086600" cy="38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4255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Treaty of Kanagawa - 18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Jap host bows before Perry"/>
          <p:cNvPicPr/>
          <p:nvPr/>
        </p:nvPicPr>
        <p:blipFill>
          <a:blip r:embed="rId1">
            <a:lum contrast="6000"/>
          </a:blip>
          <a:srcRect l="2248" t="0" r="0" b="4417"/>
          <a:stretch/>
        </p:blipFill>
        <p:spPr>
          <a:xfrm>
            <a:off x="1371600" y="1371600"/>
            <a:ext cx="662940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Learns a Les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914400" y="1230480"/>
            <a:ext cx="769608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 1862, just before the start of the _____________, Tokugawa sent officials and scholars to ______ to study the situation there. A Japanese recorded in his diary from Shanghai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The Chines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have become ________ to the foreigners. Sovereignty may belong to China but in fact it's no more than a colony of Great Britain and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ina’s “Unequal Treati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forced to open port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1371600"/>
            <a:ext cx="64771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Rectangle 4"/>
          <p:cNvSpPr/>
          <p:nvPr/>
        </p:nvSpPr>
        <p:spPr>
          <a:xfrm>
            <a:off x="1066680" y="52894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ter the Opium War of 1839-1842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Japan was convinced that it had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_______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o the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</a:t>
            </a:r>
            <a:r>
              <a:rPr b="1" i="1" lang="en-US" sz="4000" spc="-1" strike="noStrike">
                <a:solidFill>
                  <a:srgbClr val="e20000"/>
                </a:solidFill>
                <a:latin typeface="Japan"/>
              </a:rPr>
              <a:t>Shi-shi</a:t>
            </a: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 (“Men of High Purpos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57200" y="996840"/>
            <a:ext cx="84582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ghly idealistic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_______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felt that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arrival of Westerners was an attack on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traditional values of Jap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y believed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_______________________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re furious at the _____ for signing treati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with the West without the Emperor’s cons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Their slog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Revere the Emperor, Expel</a:t>
            </a:r>
            <a:br>
              <a:rPr sz="2600"/>
            </a:b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                    the Barbaria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5:45:39Z</dcterms:created>
  <dc:creator>Sue Pojer &amp; Lisbeth Rath</dc:creator>
  <dc:description/>
  <dc:language>en-US</dc:language>
  <cp:lastModifiedBy>admin</cp:lastModifiedBy>
  <dcterms:modified xsi:type="dcterms:W3CDTF">2010-05-03T18:24:57Z</dcterms:modified>
  <cp:revision>83</cp:revision>
  <dc:subject/>
  <dc:title>Japan Becomes an Imperialist Power</dc:title>
</cp:coreProperties>
</file>